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EAC-C654-45C9-B450-B7C1129A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3C3-6208-44D6-BB74-97524A2C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3F2-8FD3-448F-A513-E50C95D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679-C07E-438B-A644-282169DF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BB26-0407-4C29-B317-2A060B76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A71-EBC1-47D8-B5A3-B04EC6B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FF0E-4D27-49CB-9951-E1859769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9222-3102-49FD-A7C5-F72B309C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0B1-8FDC-4BB2-9CFB-2AEAFFF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D157-8570-446F-AA11-851F7B42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32C-B937-4349-A441-EB857F1A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D39-954A-4E35-AB15-4A394D7D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3D4C-EAA8-4A23-9077-72E73BF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30C5-344F-4B05-A6D0-C0C6E74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CEC-13AC-45D5-9A06-6EB6BF2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2F3-8311-4311-8D4D-B8340CE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306-76E5-4BDB-B553-82C19A86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42A-5BF9-4081-A672-B580F65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700-1C57-4A06-AE01-3F32D049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97D-917C-4CAC-B40F-2302CD59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8AA-16F7-4217-823E-0BA1F6D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3D5-86B8-4784-B554-4D6CA61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790-82C3-40DD-BACA-86C0B2C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4E8-C238-4D8B-97BB-480DDE0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CC6-5B93-469B-BBA4-3BA74645FA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F54D-8AD1-4F15-9A66-7DCD02867D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Area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rm-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-te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SA Formula She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-D figures – Square, parallelogram, rectangle, triangle, trapezoid, circle, and regular &amp; irregular polyg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w do you find area of a figure that doesn’t have a formula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eck-up – Perimeter, Circumference and Are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ndout of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ractice: Perimeter, Circumference, &amp;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lculating Surface 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formulas – cube, rectangular prism, sphere, &amp; cylinder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Formula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d area of each face and add to find the total surfac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ni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is used for Surface Area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Are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each shape that makes up a 3-D sol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much exposed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re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a solid object h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swer: Square un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eck-up – Surface 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ndout of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ractice – Surface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bic Un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ume: how much three-dimensional (3-D) space a solid occupi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 we call it “Cubic”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429000"/>
            <a:ext cx="1214640" cy="12142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447920" y="5410080"/>
            <a:ext cx="853920" cy="1014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780840" cy="965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200400" y="5410080"/>
            <a:ext cx="946080" cy="95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34120" y="45720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3048120"/>
            <a:ext cx="37800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olume Formu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SA Formula she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sm, Cone, Pyramid, cylinder (many types), &amp; sph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eck-up - Vol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ndout of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ractice - Vol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Practice – if you need it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ing Ar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happened when Orgo tore up a PUZZLE Boo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rface Area of Rectangular Pris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ing Volu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cket out the Do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t-Test – same as Pre-test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imeter, Area, Volume and Surface Are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of vocabulary and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 the definitions of perimeter, area, volume and surface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stand units, square units, and cubic units and how they relate to perimeter, area and vol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formulas to calculate perimeter, area, volume, and surface are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ll the 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ll the dice and define the geometry vocabulary word next to your numb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1817640" cy="1508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410080" y="5105520"/>
            <a:ext cx="1830600" cy="113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1798920" cy="97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124080" y="2971800"/>
            <a:ext cx="25369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ce Roll Number Mat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. Circ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2. Cu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3. Pr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4. C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5. Pyram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6. Cylin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7. Triang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8. Trapezo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9. Rectang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0. Sp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889280" y="5746680"/>
            <a:ext cx="30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752480"/>
            <a:ext cx="396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Circum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Pe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Surfac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. Cub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. Squar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.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. Rad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. Di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e of the distance around a figure (polygon) made up of straight lines cal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ides (s, or l &amp; w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, triangle, rectangle, trapezoid, etc. or an irregular 2-D (flat) multi-sided shap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rcle Perimet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the shape has curved lines instead of straight we call i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ircumferen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radius (r)- distance from the center to the edge of the circ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ameter (d) – distance across the circle passing through the cen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 = 2r or r = ½ 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ard or metr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ement of the side or d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imeter and circum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248520" y="3429000"/>
            <a:ext cx="1831680" cy="104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3352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quare un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– measure of a shape’s (2-D Flat figures) surface, space inside the perime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 we call it “square”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20120" y="4419720"/>
            <a:ext cx="1279440" cy="90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942840" cy="1236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523880" y="4343400"/>
            <a:ext cx="898560" cy="143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477120" y="304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572000" y="5715000"/>
            <a:ext cx="1839960" cy="696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4572000" y="380880"/>
            <a:ext cx="1274760" cy="876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934320" y="5334120"/>
            <a:ext cx="636480" cy="123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33520" y="5791320"/>
            <a:ext cx="1481040" cy="647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8153280" y="228600"/>
            <a:ext cx="696960" cy="11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2514600" y="5562720"/>
            <a:ext cx="1555920" cy="696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2708400">
            <a:off x="6628680" y="2895480"/>
            <a:ext cx="1214640" cy="1214280"/>
          </a:xfrm>
          <a:prstGeom prst="diamond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91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3200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32:14Z</dcterms:created>
  <dc:creator>MCTI</dc:creator>
  <dc:description/>
  <dc:language>en-US</dc:language>
  <cp:lastModifiedBy>MCTI</cp:lastModifiedBy>
  <dcterms:modified xsi:type="dcterms:W3CDTF">2010-01-15T14:45:49Z</dcterms:modified>
  <cp:revision>11</cp:revision>
  <dc:subject/>
  <dc:title>Perimeter, Area, Volume and Surface Area</dc:title>
</cp:coreProperties>
</file>